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7D7-B0E9-47E7-8D56-CB9058A8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0B2-0730-4461-B72F-A6A1A621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18A-CDAD-4F7F-8471-8202ACC0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8FE-CC34-4A27-AAF9-1E7C457A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1B14-6744-41C7-B7B5-4442217F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AFA8-47B6-4B3C-BA68-57A8D580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3037-F64A-4B0E-AD96-31E3BB32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3407-81FC-429A-B260-D2E8E601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19D9-1040-4966-960D-8264BB27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8FDF-74CE-42BD-8E25-5E032151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C814-F046-4254-9EAF-4FC19108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EDF-BF0B-4E60-BD93-7C0CD91E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D9BF-E267-41F7-9A2B-7C43AB3F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4524-EC54-4F49-A5CF-9F631822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E85F-AD1D-4EA9-B535-4B96C9D4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7577-CACF-4674-8F86-AB159599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AF89-E18F-4DFC-97DC-02AC66B5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0B39E-997C-49F3-A9FA-087E1BE5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3FB13-4384-40C1-95C8-FC60E655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BD3BB-01B3-47FD-A850-60E9A5D4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BA888-DDCF-441F-9618-3EE8168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B472B-4A76-46C1-BACB-6E6D5F88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B5C-71F6-4C63-B344-7D80BC4C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1187C-D258-4690-8AB1-01150489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AD6CC-B4B8-4FF8-9A3C-CDB274F6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76A2E-FCA5-43B2-AE1C-8864D364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D0F4B-55FB-4547-BE7C-2039DD39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58F39-2FD4-4F3F-B865-729236D5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ACA90-EB70-4DE3-97E9-7FB0A02D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03ABB-6793-4339-9053-A4FEBDC9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2CA35-F2A7-48C6-8F5E-45B8FFEB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67E0B-D9F0-4AE3-B4CD-3F3FD298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77917-BF47-4C0C-B5A6-1A3C0B9F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359-92C4-4431-98C4-34C05396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2C210-6D41-4FF5-BAF5-0C10D114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BE69F-58BF-4BB9-8C35-533A5F90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ADEBB-F9AD-4AFC-8712-C521F7F7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59675-2796-4089-AF9E-6BED7B1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901EA-4BAC-445B-8B60-6BA9C4CD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A2026-92FB-42A5-AFFB-23D5BE1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EA34D-4D98-48E5-A967-B86C12A7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1427A-D0D6-45D1-BA46-BBE1DA90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393F3-52B4-4B55-B0FA-A7638C57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07A8B-2E31-4FEA-AC28-4F11E8CB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13D-E5A3-4850-B6E0-21537776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18E1A-8964-4DE5-BE69-7DEB2D1D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8C559-9F46-4243-B85A-E9553C57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4571F-0ACE-48ED-BB33-14098220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BE2CC-BCB5-42D4-90DF-AD61303C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E0FB4-EE90-460E-A891-E33608C5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48008-3E11-43EB-9B31-4BFF5B5D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AFD73-199B-485A-B6CD-91637A96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36319-A54B-4A47-8665-21DDA4F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9B5F9-FCEF-44D5-8DF3-EAB817D3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000AA-2A8D-4D86-BA2B-491FCF1A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1F6-480D-408D-B422-F1D9FC08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7B68E-41AC-4491-B5E7-3333B4F6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2B269-888A-48A8-9913-CD0D8FC9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B6F23-EE38-4EC1-93CB-4715003E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16711-B281-4A51-8387-D3E4BCE9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63033-2526-4910-A4A7-93F4C4F2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7A4ED-F545-48FE-BF9A-5EE00C55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D36F-259A-4D94-A4D5-BE5F59D7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DC502-F3BA-49B6-BE50-65641526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E0CCE-66C5-496D-8996-42BBBF53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967C8-B0D9-4666-A8E2-2EA2E73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33D-EFB9-4F6B-8260-849DF6E2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4CB84-069A-42BE-815E-2005A057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6E320-3D23-4318-A911-223FE898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EAB7B-BCB9-41B1-B2B0-63795E43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245-690B-4292-A4D6-3C0B2BB6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D19-D14E-4EE0-87BE-F7AB84EC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8FA0-1EA1-46DB-9917-7F46EA611A0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CAA9-D5EA-43A5-B5FC-AB7CAAE760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BBA6-67F6-4190-A54C-B787AC99EDF0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CEDF-B6CD-43C2-833B-B5355A9AFAF0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879E-6677-4884-982C-43E45D3765F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D063-2B9E-4596-97B0-83E9D670711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55F2-D229-4E60-A491-851C7429644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D548-A546-497C-956E-BFBEF36278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DC51-DA90-4E54-B622-869634C10B4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26F8-4462-404C-9053-4EFF8C8FB77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9"/>
          <p:cNvSpPr/>
          <p:nvPr/>
        </p:nvSpPr>
        <p:spPr>
          <a:xfrm>
            <a:off x="150804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155412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155412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DFF0-D3CC-4073-898F-48467B61FBB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 rot="5400000">
            <a:off x="140148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2F53-10D7-4433-8D14-95B29C581E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9720" y="9144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Futura Hv"/>
              </a:rPr>
              <a:t>EMERGENCY ROOM OF THE FUTURE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Group 3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hung-Lun Kua, Brandon Thompson, Sue Bh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437280" y="51166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3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tent Placeholder 2"/>
          <p:cNvSpPr/>
          <p:nvPr/>
        </p:nvSpPr>
        <p:spPr>
          <a:xfrm>
            <a:off x="612720" y="24382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80440" indent="-280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w Cen MT"/>
              </a:rPr>
              <a:t>Hallway Bed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80440" indent="-280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w Cen MT"/>
              </a:rPr>
              <a:t>Ambulance Divers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80440" indent="-280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w Cen MT"/>
              </a:rPr>
              <a:t>Records Managemen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allway B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Observ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4 patients in the hallw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12 total hallway bed st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Typically reserved for low acuity pati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Beds filled by order of arriv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Lack of electrical outle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Medical carts not linked to nursing st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Patients have to be moved out of rooms into hallway someti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562720" y="1522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allway B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Patient priv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20720" indent="-277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Patient liaison receives higher complaints from hallway beds in front of nursing st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20720" indent="-277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Patients must be moved for sensitive screen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Nurse priv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Noise level in the hallw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Family crowds hallway – nowhere to s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mbulance Diver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Observ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mory uses eRESCU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Requests help from Hospi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Attempt to reduce divers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Criteria is hospital specifi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MS can still deliver pati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MS – patient chooses hospital regardless of diver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923080" y="1011240"/>
            <a:ext cx="32004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mbulance Diver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12360" y="1600200"/>
            <a:ext cx="830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RESCUE Criteria (need 2 or more trigger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All beds full &amp; &gt; 12-15 patients in waiting roo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Holding 2 or more patients for IC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Holding &gt; 4-6 patients for bed assignm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Level 2 acuity patients in waiting roo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Total ED volume &gt; 45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Diversion Criter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eRESCUE insufficient to decompress ED saturation stat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693880" y="0"/>
            <a:ext cx="5688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 rot="5400000">
            <a:off x="-2210040" y="2971800"/>
            <a:ext cx="60962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775f55"/>
                  </a:solidFill>
                  <a:miter/>
                </a:ln>
                <a:solidFill>
                  <a:srgbClr val="775f55"/>
                </a:solidFill>
                <a:latin typeface="CordiaUPC"/>
              </a:rPr>
              <a:t>Ambulance Diversion</a:t>
            </a:r>
            <a:endParaRPr b="1" lang="en-US" sz="1800" spc="1" strike="noStrike">
              <a:ln w="9360">
                <a:solidFill>
                  <a:srgbClr val="775f55"/>
                </a:solidFill>
                <a:miter/>
              </a:ln>
              <a:solidFill>
                <a:srgbClr val="775f55"/>
              </a:solidFill>
              <a:latin typeface="CordiaUPC"/>
              <a:ea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cords Manage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Observ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mory uses Electronic Record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13160" indent="-274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Able to access electronic medical record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13160" indent="-274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Patient status available to all nurs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13160" indent="-274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Can track lab stat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Data entered b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13160" indent="-274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Admin, Triage, ER nurse, M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MS provides a paper registration fo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Meds can be ordered electronica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cords Manage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lectronic Record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35480" indent="-2829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Unable to pull electronic records from other hospita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35480" indent="-2829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EMS registration must be entered manuall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MS provides a paper registration fo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Patients’ registration papers must be entered manually (why not let patients enter their own data into the computer?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bservation 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"/>
          <p:cNvSpPr/>
          <p:nvPr/>
        </p:nvSpPr>
        <p:spPr>
          <a:xfrm>
            <a:off x="612720" y="3124080"/>
            <a:ext cx="815328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mory Crawford Long Emergency Depart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lorie Sweigart, RN, ER Nurse Direct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nna McCloud, RN, ER Charge Nur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dice Dickson, ER Cle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rjorie Bolton, ER Patient Liais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1:00:07Z</dcterms:created>
  <dc:creator>Jon Morris</dc:creator>
  <dc:description/>
  <dc:language>en-US</dc:language>
  <cp:lastModifiedBy>Thompson</cp:lastModifiedBy>
  <dcterms:modified xsi:type="dcterms:W3CDTF">2008-09-21T21:37:27Z</dcterms:modified>
  <cp:revision>579</cp:revision>
  <dc:subject/>
  <dc:title>Slide 1</dc:title>
</cp:coreProperties>
</file>